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5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5.png" ContentType="image/png"/>
  <Override PartName="/ppt/media/image40.png" ContentType="image/png"/>
  <Override PartName="/ppt/media/image42.png" ContentType="image/png"/>
  <Override PartName="/ppt/media/image45.png" ContentType="image/png"/>
  <Override PartName="/ppt/media/image6.jpeg" ContentType="image/jpeg"/>
  <Override PartName="/ppt/media/image46.png" ContentType="image/png"/>
  <Override PartName="/ppt/media/image49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55.png" ContentType="image/png"/>
  <Override PartName="/ppt/media/image7.jpeg" ContentType="image/jpeg"/>
  <Override PartName="/ppt/media/image28.jpeg" ContentType="image/jpeg"/>
  <Override PartName="/ppt/media/image56.png" ContentType="image/png"/>
  <Override PartName="/ppt/media/image37.png" ContentType="image/png"/>
  <Override PartName="/ppt/media/image36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0B3-22B5-4D08-8F9F-B357C940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DF0-3E45-4712-A408-7A4D74A8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B5E1-60B8-4D6C-9658-09ACA899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0AD-0074-4B1A-8B55-0A65D1A8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58C9-0714-45CC-9607-3E7D032E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9B11-DB1C-4C37-B078-320D3AE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E267-D401-4A81-881E-ACE29E03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5FFF-1ED5-4A55-AB49-4F2121D0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EED5-7473-435E-8833-EF7E7555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05F1-F009-49E1-9474-A8F8CF1D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F966-101B-42E9-BE4F-58C8DF56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1E2-7292-4916-8389-A76E2DE2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6BDE-501D-4B05-AC49-3748ABE8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CD4F-0723-413B-822C-D7FF8F6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5F48-0419-44AD-8EBF-B8EC7E1C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A7B3-0950-4E50-AD28-79B01DF4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5162-43AA-4E7C-A689-67597806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5394C-1914-4CB8-A68E-6D568C61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0B27-2684-462D-84EB-EAC12ADD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3D9C-1D31-40D1-9817-AAEA27A3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1A378-11AA-40F5-9B87-892F834C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D0C9-F05C-4DA9-A69C-9626E405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32A-B925-4737-ACF6-9A2E613C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044B-B775-4D37-ADCF-E3B46D24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1131-4837-4844-B40C-0F5E32D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D8973-771B-475C-B866-A01CF7B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3B16-5F82-4C15-8621-56910D20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C465-A116-4D53-A053-361DBD0A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CF4B-9E5D-4680-9E27-39BD5175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B51B-B665-48F0-B8CE-2547C37A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09D7-5B56-47D9-9519-A800502D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13859-0124-4151-A389-02D23BAC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BA7B8-286C-4AC0-9EA6-B427237D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19C-4B4B-44DD-8F32-B0D74E53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C17EA-C8D4-411C-9AB4-254137FC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2DABA-9DEC-43B9-B183-871187B9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C5AF-8CDE-441D-89AE-302C5D21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C86BD-604B-4E95-937D-1969623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E2EB8-A648-43FB-BA1F-DF540B8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0E364-3C92-43EF-94A3-8209BFCC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BF1A7-9F50-419D-BCD8-47D8F6AF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9AC6D-7436-4DEA-ABFE-3AB11851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E30F-43CB-42FE-A656-C58A1B30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9C51B-EE9D-4E9C-BAB7-C8B210DF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E0A6-77A5-41BB-87BF-4A52F4B8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5413-4163-46EA-A201-2A09BD2E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C9A13-8834-45A4-A29E-482455A6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EA0E-50D6-4F8B-9108-12F3DD23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AF08B-48F4-4D1C-BCE4-FD7F04DB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B190-651B-4B04-A5CF-20D4EEF7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F27B-723A-4874-915B-519B9895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743E6-0928-4C83-89D7-9A6F987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5C89E-AC96-4E38-9E35-A2300300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ABF95-C425-459E-A460-FDAAD6AD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89C46-ACDB-47BD-A9FB-7CCD8464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7DC9-63EA-4EB0-91EA-9D26BA1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FA2E-C9FC-43B8-8339-9C2A561F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2DE23-8B42-4119-9C14-EC6FF642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DC53-81BE-4D02-8EFD-D6706407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D63D5-A544-41A1-B0D6-B24ADE5D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6EF64-EF5F-47DD-8B71-106E1A17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295B2-5C22-4682-A14C-CC647679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DF2A2-05BA-4B4C-A0FA-C9AB74F8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2DB3C-170D-486A-B828-C6820E7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94F4-2C04-4583-B45F-36A058FF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BF32E-1B5D-4E2D-9D32-A56BE9B7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27A-37E3-43F3-9CB1-F39948B2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0AF8B-7E41-48E1-9729-0B3CC455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F7C5B-C05E-423E-A705-0C3EE010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D1ED4-A4AB-4C71-89E4-E6156D00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295B1-3779-4BA9-BF33-146C5CB8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2B629-506B-4099-8688-2BF90FA8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9AF4F-45E3-4A60-9FEA-C95BC574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AA134-3F08-44A2-96AB-AE2F61DE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7748C-379A-4895-A498-A22195D6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61E30-DEE9-4654-9866-5E910BA0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C555-D59B-474E-9A63-06CF1816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FD4-0BD3-498E-A521-7E695514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961DE-0ABC-4EC1-A757-E9C60D9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B6DD-08B7-432C-8AF2-2F1A52C5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41339-2B2A-4717-A006-C37037BC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C7C55-FDF8-4E2F-9803-CF164FA1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11CDB-6FCD-41C7-85B7-5A9B364E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A3C-49A0-4EEE-9A4D-9C0CAC67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E18A-9133-4755-8231-21141C9B84E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0B3D-A216-4B30-83BA-BBB8FD3C75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8F96-CD4D-425B-896D-19AAA01338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30E2-8F92-4AA6-B1CF-AA84EC94D25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D520-0491-4F8A-B037-975CBC0B05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74A1-2834-40F0-9B21-6E4B9083622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9035-B7B5-4028-93AF-3D9C60F2C2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619280" y="33336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20e04"/>
                </a:solidFill>
                <a:latin typeface="Corbel"/>
              </a:rPr>
              <a:t>Биология 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20e04"/>
                </a:solidFill>
                <a:latin typeface="Corbel"/>
              </a:rPr>
              <a:t>7 класс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автор: Воронина Е. 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учитель биолог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МБОУ «Гимназия №7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имени Героя России С. В. Василева»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г. Брянс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181080" y="188640"/>
            <a:ext cx="950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Членистоногие </a:t>
            </a:r>
            <a:br>
              <a:rPr sz="48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(Ракообразные, Паукообразные, Насекомые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9" descr="Картинка 4 из 163445"/>
          <p:cNvPicPr/>
          <p:nvPr/>
        </p:nvPicPr>
        <p:blipFill>
          <a:blip r:embed="rId1"/>
          <a:stretch/>
        </p:blipFill>
        <p:spPr>
          <a:xfrm>
            <a:off x="1042920" y="1484280"/>
            <a:ext cx="4105440" cy="3081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Картинка 73 из 379"/>
          <p:cNvPicPr/>
          <p:nvPr/>
        </p:nvPicPr>
        <p:blipFill>
          <a:blip r:embed="rId2"/>
          <a:stretch/>
        </p:blipFill>
        <p:spPr>
          <a:xfrm>
            <a:off x="5364000" y="2421000"/>
            <a:ext cx="3543480" cy="3606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Картинка 22 из 380"/>
          <p:cNvPicPr/>
          <p:nvPr/>
        </p:nvPicPr>
        <p:blipFill>
          <a:blip r:embed="rId3"/>
          <a:stretch/>
        </p:blipFill>
        <p:spPr>
          <a:xfrm>
            <a:off x="1042920" y="4149720"/>
            <a:ext cx="3384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45920" y="249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Каковы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достоинства и недостатки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Corbel"/>
              </a:rPr>
              <a:t>наружного</a:t>
            </a: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 скелета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Каковы преимущества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orbel"/>
              </a:rPr>
              <a:t>внутреннего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 скелета?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Достоинства 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1268280"/>
            <a:ext cx="405432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b2203"/>
                </a:solidFill>
                <a:latin typeface="Calibri"/>
                <a:ea typeface="Calibri"/>
              </a:rPr>
              <a:t>Наружного скеле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*проч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*прикрепление мышц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и обеспеч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передвижения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*освоение новых способов перемещения (прыжки, полет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и рассел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044960" y="1268280"/>
            <a:ext cx="509904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b2203"/>
                </a:solidFill>
                <a:latin typeface="Corbel"/>
              </a:rPr>
              <a:t>Внутреннего скеле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*растет вместе с живот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*постоянно выполняет защитную функц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*не ограничивает размеры тел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*увеличивает скорость перемещения тела за счет большей специализации отдельных мышц и их групп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Низшие хордовые (ланцетник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Picture 7" descr="Картинка 107 из 141"/>
          <p:cNvPicPr/>
          <p:nvPr/>
        </p:nvPicPr>
        <p:blipFill>
          <a:blip r:embed="rId1"/>
          <a:stretch/>
        </p:blipFill>
        <p:spPr>
          <a:xfrm>
            <a:off x="1187280" y="1700280"/>
            <a:ext cx="75042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0800" y="1125000"/>
            <a:ext cx="832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Каковы </a:t>
            </a:r>
            <a:br>
              <a:rPr sz="4800"/>
            </a:b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типы соединения костей?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1116000" y="335772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7317"/>
                </a:solidFill>
                <a:latin typeface="Calibri"/>
              </a:rPr>
              <a:t>последний абза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7317"/>
                </a:solidFill>
                <a:latin typeface="Calibri"/>
              </a:rPr>
              <a:t>на стр. 194 учеб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Типы соединения кост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3068280"/>
            <a:ext cx="84247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* Неподвиж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* Полуподвиж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*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orbel"/>
              </a:rPr>
              <a:t>Подвижное (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Corbel"/>
              </a:rPr>
              <a:t>суставы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2203"/>
                </a:solidFill>
                <a:latin typeface="Corbel"/>
              </a:rPr>
              <a:t>Кости скелета позвоночных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2203"/>
                </a:solidFill>
                <a:latin typeface="Corbel"/>
              </a:rPr>
              <a:t>имеют специальные места для прикрепления мышц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2203"/>
                </a:solidFill>
                <a:latin typeface="Corbel"/>
              </a:rPr>
              <a:t>(прикрепляясь к двум костям скелета, соединенным через </a:t>
            </a:r>
            <a:r>
              <a:rPr b="1" i="1" lang="ru-RU" sz="2800" spc="-1" strike="noStrike">
                <a:solidFill>
                  <a:srgbClr val="4b2203"/>
                </a:solidFill>
                <a:latin typeface="Corbel"/>
              </a:rPr>
              <a:t>сустав</a:t>
            </a:r>
            <a:r>
              <a:rPr b="1" i="1" lang="ru-RU" sz="2000" spc="-1" strike="noStrike">
                <a:solidFill>
                  <a:srgbClr val="4b2203"/>
                </a:solidFill>
                <a:latin typeface="Corbel"/>
              </a:rPr>
              <a:t>, мышца приводит их в движение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90544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троение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вободных конечностей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ычажного тип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10" descr="конечн"/>
          <p:cNvPicPr/>
          <p:nvPr/>
        </p:nvPicPr>
        <p:blipFill>
          <a:blip r:embed="rId1"/>
          <a:srcRect l="0" t="1611" r="0" b="5000"/>
          <a:stretch/>
        </p:blipFill>
        <p:spPr>
          <a:xfrm>
            <a:off x="971640" y="1700280"/>
            <a:ext cx="71294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Динамическая пауза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(</a:t>
            </a: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упражнения на разминку суставов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4000" cy="2754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1814400" cy="2092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3"/>
          <a:stretch/>
        </p:blipFill>
        <p:spPr>
          <a:xfrm>
            <a:off x="1403280" y="4365720"/>
            <a:ext cx="2305080" cy="2119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4"/>
          <a:stretch/>
        </p:blipFill>
        <p:spPr>
          <a:xfrm>
            <a:off x="3564000" y="4437000"/>
            <a:ext cx="1800000" cy="2109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"/>
          <p:cNvPicPr/>
          <p:nvPr/>
        </p:nvPicPr>
        <p:blipFill>
          <a:blip r:embed="rId5"/>
          <a:stretch/>
        </p:blipFill>
        <p:spPr>
          <a:xfrm>
            <a:off x="6875640" y="4392720"/>
            <a:ext cx="1368360" cy="2230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"/>
          <p:cNvPicPr/>
          <p:nvPr/>
        </p:nvPicPr>
        <p:blipFill>
          <a:blip r:embed="rId6"/>
          <a:stretch/>
        </p:blipFill>
        <p:spPr>
          <a:xfrm>
            <a:off x="6948360" y="2205000"/>
            <a:ext cx="18003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Главные части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келета позвоночных животных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19280" y="191592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*Осевой скелет – </a:t>
            </a:r>
            <a:r>
              <a:rPr b="1" i="1" lang="ru-RU" sz="4400" spc="-1" strike="noStrike">
                <a:solidFill>
                  <a:srgbClr val="ff0000"/>
                </a:solidFill>
                <a:latin typeface="Corbel"/>
              </a:rPr>
              <a:t>позвоночни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*Скелет конечностей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(</a:t>
            </a: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скелет свободных конечностей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и их поясов</a:t>
            </a: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orbel"/>
              </a:rPr>
              <a:t>* Скелет головы - </a:t>
            </a:r>
            <a:r>
              <a:rPr b="1" i="1" lang="ru-RU" sz="4400" spc="-1" strike="noStrike">
                <a:solidFill>
                  <a:srgbClr val="009900"/>
                </a:solidFill>
                <a:latin typeface="Corbel"/>
              </a:rPr>
              <a:t>череп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468720" y="1052280"/>
            <a:ext cx="104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Каковы особенности строения позвонка?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очему появление позвонков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в осевом скелете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является важной прогрессивной чертой?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Прямоугольник 2"/>
          <p:cNvSpPr/>
          <p:nvPr/>
        </p:nvSpPr>
        <p:spPr>
          <a:xfrm>
            <a:off x="1332000" y="4724280"/>
            <a:ext cx="684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770f"/>
                </a:solidFill>
                <a:latin typeface="Calibri"/>
              </a:rPr>
              <a:t>рис. 147 на стр. 195 учеб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76360" y="1125000"/>
            <a:ext cx="7129440" cy="2232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порно-двигательная система животных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(</a:t>
            </a:r>
            <a:r>
              <a:rPr b="1" i="1" lang="ru-RU" sz="6000" spc="-1" strike="noStrike">
                <a:solidFill>
                  <a:srgbClr val="320e04"/>
                </a:solidFill>
                <a:latin typeface="Corbel"/>
              </a:rPr>
              <a:t>эволюция строения</a:t>
            </a: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Строение позвон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Позвонки придаю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скелету прочность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и гибкость, защищают спинной моз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3187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71280" y="262080"/>
            <a:ext cx="907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Задание групп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выявить </a:t>
            </a:r>
            <a:r>
              <a:rPr b="1" i="1" lang="ru-RU" sz="3200" spc="-1" strike="noStrike" u="sng">
                <a:solidFill>
                  <a:srgbClr val="611617"/>
                </a:solidFill>
                <a:uFillTx/>
                <a:latin typeface="Calibri"/>
                <a:ea typeface="Calibri"/>
              </a:rPr>
              <a:t>особенности строения скеле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11617"/>
                </a:solidFill>
                <a:uFillTx/>
                <a:latin typeface="Calibri"/>
                <a:ea typeface="Calibri"/>
              </a:rPr>
              <a:t>рыб, земноводных, пресмыкающих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11617"/>
                </a:solidFill>
                <a:uFillTx/>
                <a:latin typeface="Calibri"/>
                <a:ea typeface="Calibri"/>
              </a:rPr>
              <a:t>птиц, млекопитающ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(работа с учебником, ТПО и карточками – 3мин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выступления – по 2мин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Задание эксперт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подготовить выво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об основных направлени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эволюции скелетов позвоночных живот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Позвоночные (Рыбы)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7201080" cy="54007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2314"/>
                </a:solidFill>
                <a:latin typeface="Corbel"/>
              </a:rPr>
              <a:t>Позвоночные(Земноводные)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0" name="Picture 5" descr="Картинка 3 из 627"/>
          <p:cNvPicPr/>
          <p:nvPr/>
        </p:nvPicPr>
        <p:blipFill>
          <a:blip r:embed="rId1"/>
          <a:stretch/>
        </p:blipFill>
        <p:spPr>
          <a:xfrm>
            <a:off x="1403280" y="1413000"/>
            <a:ext cx="70214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озвоночные(Пресмыкающиеся)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Ящериц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4" descr="скелет"/>
          <p:cNvPicPr/>
          <p:nvPr/>
        </p:nvPicPr>
        <p:blipFill>
          <a:blip r:embed="rId1"/>
          <a:stretch/>
        </p:blipFill>
        <p:spPr>
          <a:xfrm>
            <a:off x="95400" y="2133720"/>
            <a:ext cx="90486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озвоночные (Птицы)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Picture 5" descr="06060201"/>
          <p:cNvPicPr/>
          <p:nvPr/>
        </p:nvPicPr>
        <p:blipFill>
          <a:blip r:embed="rId1"/>
          <a:stretch/>
        </p:blipFill>
        <p:spPr>
          <a:xfrm>
            <a:off x="1692360" y="765000"/>
            <a:ext cx="69832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89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203"/>
                </a:solidFill>
                <a:latin typeface="Corbel"/>
              </a:rPr>
              <a:t>Особенности скелета птиц, связанные с полетом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6" name="Picture 3" descr="1"/>
          <p:cNvPicPr/>
          <p:nvPr/>
        </p:nvPicPr>
        <p:blipFill>
          <a:blip r:embed="rId1"/>
          <a:stretch/>
        </p:blipFill>
        <p:spPr>
          <a:xfrm>
            <a:off x="2814480" y="1523880"/>
            <a:ext cx="3043440" cy="49294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"/>
          <p:cNvSpPr/>
          <p:nvPr/>
        </p:nvSpPr>
        <p:spPr>
          <a:xfrm>
            <a:off x="6724800" y="1523880"/>
            <a:ext cx="12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ю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з зуб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6329520" y="3894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ль на гру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219320" y="2438280"/>
            <a:ext cx="190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нная кость и сложный крест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7"/>
          <p:cNvSpPr/>
          <p:nvPr/>
        </p:nvSpPr>
        <p:spPr>
          <a:xfrm flipV="1">
            <a:off x="2209680" y="4114440"/>
            <a:ext cx="609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8"/>
          <p:cNvSpPr/>
          <p:nvPr/>
        </p:nvSpPr>
        <p:spPr>
          <a:xfrm flipH="1">
            <a:off x="5866920" y="19051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9"/>
          <p:cNvSpPr/>
          <p:nvPr/>
        </p:nvSpPr>
        <p:spPr>
          <a:xfrm>
            <a:off x="2590920" y="3124080"/>
            <a:ext cx="12952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10"/>
          <p:cNvSpPr/>
          <p:nvPr/>
        </p:nvSpPr>
        <p:spPr>
          <a:xfrm flipH="1">
            <a:off x="4936680" y="413712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6080040" y="3443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ло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317920" y="3657600"/>
            <a:ext cx="701640" cy="9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371600" y="12952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жка, строение к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2743200" y="1676520"/>
            <a:ext cx="1355760" cy="32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2837160" y="605304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16"/>
          <p:cNvSpPr/>
          <p:nvPr/>
        </p:nvSpPr>
        <p:spPr>
          <a:xfrm flipV="1">
            <a:off x="3718080" y="604152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6324480" y="2666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нная ше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Line 18"/>
          <p:cNvSpPr/>
          <p:nvPr/>
        </p:nvSpPr>
        <p:spPr>
          <a:xfrm flipH="1">
            <a:off x="5334120" y="2895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457200" y="403848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осшиеся кости хвостового от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5940360" y="5445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203"/>
                </a:solidFill>
                <a:latin typeface="Calibri"/>
              </a:rPr>
              <a:t>Легкий череп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203"/>
                </a:solidFill>
                <a:latin typeface="Calibri"/>
              </a:rPr>
              <a:t>много полых к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скелет собаки 1"/>
          <p:cNvPicPr/>
          <p:nvPr/>
        </p:nvPicPr>
        <p:blipFill>
          <a:blip r:embed="rId1"/>
          <a:stretch/>
        </p:blipFill>
        <p:spPr>
          <a:xfrm>
            <a:off x="2050920" y="765000"/>
            <a:ext cx="6266160" cy="594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3164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озвоночные (Млекопитающие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45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новные направления эволюции скелета позвоночных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434960" y="1523880"/>
            <a:ext cx="3657600" cy="4664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327280" y="1341360"/>
            <a:ext cx="381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дифференцировка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звоночни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движное соединение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шейных позвонк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явление и развитие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грудной клет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дифференцировка черепа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на мозговой и лицевой отделы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развитие мозгового отдел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явление и развитие парных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ередних и задних конечностей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и их поясов – плечевого и тазового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явление и развитие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частных приспособлени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в связи с полетом у птиц и т. п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-108000" y="1341360"/>
            <a:ext cx="55864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33280" y="1645920"/>
            <a:ext cx="90136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§ 37, ТПО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5436a"/>
                </a:solidFill>
                <a:uFillTx/>
                <a:latin typeface="Calibri"/>
                <a:ea typeface="Calibri"/>
              </a:rPr>
              <a:t>понаблюдать за способами передви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5436a"/>
                </a:solidFill>
                <a:uFillTx/>
                <a:latin typeface="Calibri"/>
                <a:ea typeface="Calibri"/>
              </a:rPr>
              <a:t>своих домашних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436a"/>
                </a:solidFill>
                <a:latin typeface="Calibri"/>
                <a:ea typeface="Calibri"/>
              </a:rPr>
              <a:t>(аквариумных рыб и моллюсков, черепах, птиц, хомяков, кошек, собак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436a"/>
                </a:solidFill>
                <a:latin typeface="Calibri"/>
                <a:ea typeface="Calibri"/>
              </a:rPr>
              <a:t>а, может быть, и тараканов, моли…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alibri"/>
                <a:ea typeface="Calibri"/>
              </a:rPr>
              <a:t>подготовить небольшой устный расска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alibri"/>
                <a:ea typeface="Calibri"/>
              </a:rPr>
              <a:t>о способах их передвиж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alibri"/>
                <a:ea typeface="Calibri"/>
              </a:rPr>
              <a:t>о том, способны ли они менять способ передви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alibri"/>
                <a:ea typeface="Calibri"/>
              </a:rPr>
              <a:t>при изменении условий, например, при прикоснов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Цель урока: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26560" y="2276280"/>
            <a:ext cx="814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203"/>
                </a:solidFill>
                <a:latin typeface="Corbel"/>
              </a:rPr>
              <a:t>изучить эволюцию строени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203"/>
                </a:solidFill>
                <a:latin typeface="Corbel"/>
              </a:rPr>
              <a:t>опорно-двигательной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203"/>
                </a:solidFill>
                <a:latin typeface="Corbel"/>
              </a:rPr>
              <a:t>системы животных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72314"/>
                </a:solidFill>
                <a:latin typeface="Corbel"/>
              </a:rPr>
              <a:t>Биологические задачи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189360" y="32306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О чем свидетельствует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разное положение конечностей относительно туловища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у разных классов позвоночных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5" name="Picture 4" descr="полож кон"/>
          <p:cNvPicPr/>
          <p:nvPr/>
        </p:nvPicPr>
        <p:blipFill>
          <a:blip r:embed="rId1"/>
          <a:stretch/>
        </p:blipFill>
        <p:spPr>
          <a:xfrm>
            <a:off x="1116000" y="2492280"/>
            <a:ext cx="78487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0920" y="12150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Известно, что рыб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не могу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поворачивать голов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Могут ли это дела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лягушки и тритоны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Ответ поясни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2664000" cy="2309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4716360" y="5097600"/>
            <a:ext cx="3240360" cy="1760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"/>
          <p:cNvPicPr/>
          <p:nvPr/>
        </p:nvPicPr>
        <p:blipFill>
          <a:blip r:embed="rId3"/>
          <a:stretch/>
        </p:blipFill>
        <p:spPr>
          <a:xfrm>
            <a:off x="5651640" y="981000"/>
            <a:ext cx="33130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89360" y="32306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4"/>
          <p:cNvSpPr/>
          <p:nvPr/>
        </p:nvSpPr>
        <p:spPr>
          <a:xfrm>
            <a:off x="1692360" y="90792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В скелете зм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отсутствует грудная клет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В связи с чем она была утрач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у этих животных?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3851280" y="3933720"/>
            <a:ext cx="25542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89360" y="32306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3564000" y="90792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Любой лишний груз был бы помехой при поле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Какие изменения в связи с этим произош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в опорной структуре птиц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1"/>
          <a:stretch/>
        </p:blipFill>
        <p:spPr>
          <a:xfrm>
            <a:off x="4427640" y="4365720"/>
            <a:ext cx="4032000" cy="1384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0" y="83664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2784600" cy="2089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2808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89360" y="32306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1619280" y="981000"/>
            <a:ext cx="69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Шея у млекопитающ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имеет разную длин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у собаки она коротка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у жирафа длинна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Чем определяются такие различ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24360" y="3933720"/>
            <a:ext cx="2880000" cy="2159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3527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прос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332000" y="112536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О чем говори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сходный план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строения скелетов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разных позвоночных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животных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5389560" y="1523880"/>
            <a:ext cx="34322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прос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24000" y="593280"/>
            <a:ext cx="85676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Что лежит в основ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эволюционных изменен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опорно-двигательной систем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6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2952720" cy="1792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"/>
          <p:cNvPicPr/>
          <p:nvPr/>
        </p:nvPicPr>
        <p:blipFill>
          <a:blip r:embed="rId3"/>
          <a:stretch/>
        </p:blipFill>
        <p:spPr>
          <a:xfrm>
            <a:off x="6516720" y="3068640"/>
            <a:ext cx="2486160" cy="2016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"/>
          <p:cNvPicPr/>
          <p:nvPr/>
        </p:nvPicPr>
        <p:blipFill>
          <a:blip r:embed="rId4"/>
          <a:stretch/>
        </p:blipFill>
        <p:spPr>
          <a:xfrm>
            <a:off x="5724360" y="494172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0" descr=""/>
          <p:cNvPicPr/>
          <p:nvPr/>
        </p:nvPicPr>
        <p:blipFill>
          <a:blip r:embed="rId5"/>
          <a:stretch/>
        </p:blipFill>
        <p:spPr>
          <a:xfrm>
            <a:off x="1619280" y="4869000"/>
            <a:ext cx="27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2"/>
          <p:cNvSpPr/>
          <p:nvPr/>
        </p:nvSpPr>
        <p:spPr>
          <a:xfrm>
            <a:off x="900000" y="213372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* Оп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* Поддерж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стоянной формы 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* Защита клеток, тканей, орг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* Передви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новные функции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порно-двигательной систем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7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«Ступеньки» в изучении эволюции ОДС</a:t>
            </a:r>
            <a:br>
              <a:rPr sz="2800"/>
            </a:b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(от одной систематической группы животных к другой)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3640" y="907920"/>
            <a:ext cx="49561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rbel"/>
              </a:rPr>
              <a:t>*одноклеточные –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orbel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rbel"/>
              </a:rPr>
              <a:t>*беспозвоночные –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rbel"/>
              </a:rPr>
              <a:t>хордов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rbel"/>
              </a:rPr>
              <a:t>*бесчерепные – </a:t>
            </a:r>
            <a:r>
              <a:rPr b="1" lang="ru-RU" sz="2800" spc="-1" strike="noStrike" u="sng">
                <a:solidFill>
                  <a:srgbClr val="006600"/>
                </a:solidFill>
                <a:uFillTx/>
                <a:latin typeface="Corbel"/>
              </a:rPr>
              <a:t>позвоноч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rbel"/>
              </a:rPr>
              <a:t>*разные систематическ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rbel"/>
              </a:rPr>
              <a:t>группы позвоночных –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rbel"/>
              </a:rPr>
              <a:t>рыбы, земноводны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rbel"/>
              </a:rPr>
              <a:t>пресмыкающиеся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rbel"/>
              </a:rPr>
              <a:t>птицы, млекопитающ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5068800" y="1916280"/>
            <a:ext cx="40752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остейшие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(амеба,</a:t>
            </a: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 эвглена, инфузория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5" descr="Картинка 12 из 28720"/>
          <p:cNvPicPr/>
          <p:nvPr/>
        </p:nvPicPr>
        <p:blipFill>
          <a:blip r:embed="rId1"/>
          <a:stretch/>
        </p:blipFill>
        <p:spPr>
          <a:xfrm>
            <a:off x="826920" y="1268280"/>
            <a:ext cx="3996000" cy="2706840"/>
          </a:xfrm>
          <a:prstGeom prst="rect">
            <a:avLst/>
          </a:prstGeom>
          <a:ln w="25560">
            <a:solidFill>
              <a:srgbClr val="bb8605"/>
            </a:solidFill>
            <a:miter/>
          </a:ln>
        </p:spPr>
      </p:pic>
      <p:pic>
        <p:nvPicPr>
          <p:cNvPr id="331" name="Picture 5" descr="http://scienceblogs.com/clock/upload/2006/07/Euglena.JPG"/>
          <p:cNvPicPr/>
          <p:nvPr/>
        </p:nvPicPr>
        <p:blipFill>
          <a:blip r:embed="rId2"/>
          <a:stretch/>
        </p:blipFill>
        <p:spPr>
          <a:xfrm>
            <a:off x="2050920" y="4005360"/>
            <a:ext cx="3457800" cy="2609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Картинка 5 из 4977"/>
          <p:cNvPicPr/>
          <p:nvPr/>
        </p:nvPicPr>
        <p:blipFill>
          <a:blip r:embed="rId3"/>
          <a:stretch/>
        </p:blipFill>
        <p:spPr>
          <a:xfrm>
            <a:off x="5508720" y="1197000"/>
            <a:ext cx="33112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ишечнополостны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8" descr="стр"/>
          <p:cNvPicPr/>
          <p:nvPr/>
        </p:nvPicPr>
        <p:blipFill>
          <a:blip r:embed="rId1"/>
          <a:srcRect l="0" t="11859" r="0" b="8538"/>
          <a:stretch/>
        </p:blipFill>
        <p:spPr>
          <a:xfrm>
            <a:off x="0" y="2133720"/>
            <a:ext cx="3635280" cy="2894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5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Черви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(Плоские, Круглые, Кольчатые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7" descr="Картинка 2 из 1624"/>
          <p:cNvPicPr/>
          <p:nvPr/>
        </p:nvPicPr>
        <p:blipFill>
          <a:blip r:embed="rId1"/>
          <a:stretch/>
        </p:blipFill>
        <p:spPr>
          <a:xfrm>
            <a:off x="468360" y="2060640"/>
            <a:ext cx="2952720" cy="3097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Картинка 60 из 2075"/>
          <p:cNvPicPr/>
          <p:nvPr/>
        </p:nvPicPr>
        <p:blipFill>
          <a:blip r:embed="rId2"/>
          <a:stretch/>
        </p:blipFill>
        <p:spPr>
          <a:xfrm>
            <a:off x="3276720" y="1989000"/>
            <a:ext cx="3193920" cy="352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Картинка 1 из 7396"/>
          <p:cNvPicPr/>
          <p:nvPr/>
        </p:nvPicPr>
        <p:blipFill>
          <a:blip r:embed="rId3"/>
          <a:stretch/>
        </p:blipFill>
        <p:spPr>
          <a:xfrm>
            <a:off x="5688000" y="1773360"/>
            <a:ext cx="3456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Моллюски 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Содержимое 5" descr="800px-Shells01.jpg"/>
          <p:cNvPicPr/>
          <p:nvPr/>
        </p:nvPicPr>
        <p:blipFill>
          <a:blip r:embed="rId1"/>
          <a:stretch/>
        </p:blipFill>
        <p:spPr>
          <a:xfrm>
            <a:off x="1116000" y="1916280"/>
            <a:ext cx="5184720" cy="3889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6588000" y="1989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3"/>
          <a:stretch/>
        </p:blipFill>
        <p:spPr>
          <a:xfrm>
            <a:off x="6588000" y="422100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</cp:lastModifiedBy>
  <dcterms:modified xsi:type="dcterms:W3CDTF">2013-02-14T15:12:55Z</dcterms:modified>
  <cp:revision>84</cp:revision>
  <dc:subject/>
  <dc:title>Презентация PowerPoint</dc:title>
</cp:coreProperties>
</file>